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2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66.png" ContentType="image/png"/>
  <Override PartName="/ppt/media/image92.wmf" ContentType="image/x-wmf"/>
  <Override PartName="/ppt/media/image75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93.wmf" ContentType="image/x-wmf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4.png" ContentType="image/png"/>
  <Override PartName="/ppt/media/image29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FE28-38C1-4185-8C96-EDBA8FA02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3CB-8C5F-4F3D-A01F-9ABA38B45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E15-62CF-4601-AB40-B74504A5E8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A32-9285-4D6A-9582-E4DC74024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3EB-0A10-43CA-AB72-36AFB4014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F2C-8038-4799-A658-990334AA8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37BF-1115-43AE-B15D-1071108A0C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E7D-DB03-430B-A548-38246E997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BD5-5984-4DA5-BCE2-565C391F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7AC-0FA2-4B0A-9F34-D0C82D5C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C52-DE7B-43EC-BF39-748EABEB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BF3-B2FD-48AC-9BCF-4092EBBB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31A5-5ED9-4765-BA82-15746BB0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70B-DE94-46B5-B412-116B7E0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F534-7B21-4790-ACAF-14DB656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28A1-E5C3-4C29-A3AB-8414527B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BB1-154E-4B9F-8AD3-A014E53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5843-8A56-4E87-B1AA-FA1EEB58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E75-E711-4449-BE2C-8D301E5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8DA-C99E-4DDD-A214-FBCB2977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4B9B-D1DD-47A1-A914-9BE39CA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6BC-6C99-4943-B8A1-2E0D389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EBFC-3FFE-4C4D-B867-55A4ADF9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AB0-5CA9-40E3-85F3-B99D7E67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7073-7C87-4131-A775-7095FDB0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1C03-7C50-4420-9684-7742C996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8E55-F845-4F95-B6DF-3059048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D4A5-EE8C-4FE1-B32D-5A84D32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BED6-3BAA-45CE-950F-D44FA46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A324-7803-4429-A40C-05A0859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A5B-B86D-4631-B5E1-9D3102E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46A0-50BF-4652-AAC0-43CB605D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FBE3-492B-4517-AA54-BB452345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5C78-1C55-4D51-90BF-EED2C0E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F21C-D442-4871-8EBE-0E171277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49E4-7975-4250-BE32-2CCC0B8C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1AC2-B699-4F34-A63C-67166F15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C70E-FA5E-4BE0-A06F-C0348A3E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1B08-D1E6-4294-82B3-488E5640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4119-BDEC-4E86-9D13-CD3A3096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F595-C1A7-4FA3-B277-5F678860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63B-8359-4D6F-8E6C-6204D3CA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1EAC-9599-44CA-BD04-7B2C9E40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6117-5E75-49B9-ADFE-35E01F5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E771-3D4E-4B7C-AD07-DEE6D710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B2B5-E4E7-4058-A938-3D7E901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E606-D2E8-4826-A63D-416BEDE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826A-5AA9-4C46-918B-13069E6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60F8-55C6-441A-8C8C-878E500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82FF-628F-4373-9617-C6DF2181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B513-4FF7-41CB-853B-FB5A8CDF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956F-723A-4B8E-9225-D117B66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8C8-41FC-451C-94D0-E1FFCAF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4D73-F49F-48A6-9DE0-105A5B7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F74A-9EF4-4F98-B36A-FAE14D6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415E-8296-44D0-8078-7F098533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C77B-F513-45DD-B555-E80BED1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A216A-CEC7-4736-81B0-8C3D476E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1D98-F583-4EB2-8E87-7F019C5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BAE6-D9DB-4EF7-AE4F-3644215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0C54-76DC-422D-9DC1-BF1C3DF0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66AD-C19A-4E3F-A01B-FBD9291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93BB-2134-47B2-876F-4E0F403B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96F-BEC3-4B86-BEDC-DD69D81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9DAA-D18F-4F78-8FD4-90B09DFB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70F-1E3A-4481-9847-7F8AC0D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606-9502-4929-8C01-2C776D3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318-6D3C-427B-B455-ABEE8C3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896-DE05-44E3-AFFB-746AAD82F15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387-DE4B-440A-BF88-F692B87EDB2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5FA-A8B3-404D-BD98-66A3C57CBE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E660-BDF8-420A-AA71-52D26235800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9D2-6F92-4E09-9F0F-F400D89B97D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B55-5688-4435-AA45-6A039D91100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Multi-agent system for advanced information processing in medic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209680" y="3213000"/>
            <a:ext cx="4730760" cy="2832120"/>
            <a:chOff x="2209680" y="3213000"/>
            <a:chExt cx="4730760" cy="2832120"/>
          </a:xfrm>
        </p:grpSpPr>
        <p:pic>
          <p:nvPicPr>
            <p:cNvPr id="240" name="Picture 5" descr="_x001f_Cliché 2009-06-26 12-58-25.tiff                                000BB313_x000c_Macintosh HD                   C3621A85:"/>
            <p:cNvPicPr/>
            <p:nvPr/>
          </p:nvPicPr>
          <p:blipFill>
            <a:blip r:embed="rId2"/>
            <a:stretch/>
          </p:blipFill>
          <p:spPr>
            <a:xfrm>
              <a:off x="2209680" y="3213000"/>
              <a:ext cx="4730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6559560" y="3213000"/>
              <a:ext cx="362160" cy="762840"/>
            </a:xfrm>
            <a:prstGeom prst="rect">
              <a:avLst/>
            </a:prstGeom>
            <a:solidFill>
              <a:srgbClr val="597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e result provided by the model allows the derivation of spatial and topological information about the localization and local characteristics of the brain t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is information is then used by the multi-agents system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te, however, that the cortical boundary is only roughly detected, a precise delineation of the brain sulci remaining required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D29-1750-48AA-AF2C-033B2125BFA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wo classes of agents : region agents specialized for GM or for WM segmentation and edge agents specialized for the brain boundary det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agents are autonomous and simple entities implemented as C++ objects, which communicate through a shared environment and are concurrently executed under control of a schedu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ach agent is locally specialized (augmentative cooperation) and initialized at runti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Agent operate according to region growing; this implies the definition of the initial localization in the image (seed) and the behavior (parameterSpecialization) of pixel growing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dgeAgent operate according to optimum detection, based on heterogeneous information; this implies the specification of the bounds of the edge segment, the parameters of the cost function (costFunction) and a fusion function (confrontational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52C-4491-49EB-9D9F-DB0724E72B7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3749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 growing ag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itial s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Parameters: μ, 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regation criteri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-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 &lt;  I(p)  &lt;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+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33800" y="1143000"/>
            <a:ext cx="374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ntour Agent A*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sion between global and local contour detection + region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contour detection: B-spline interpolation of the signal + hysteresis thresholding to detect tiny struc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agents search for the best path (cost function c) between two extremities p1 and p2 placed on the brain boundary as assessed by the deformable mod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guaranties the conservation of global 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5B49-2D4B-4C71-8267-F15E9286866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C:\Mes Documents\Laurence\Images GIF\croissanceAgents.gif"/>
          <p:cNvPicPr/>
          <p:nvPr/>
        </p:nvPicPr>
        <p:blipFill>
          <a:blip r:embed="rId1"/>
          <a:stretch/>
        </p:blipFill>
        <p:spPr>
          <a:xfrm>
            <a:off x="533520" y="3657600"/>
            <a:ext cx="4422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560"/>
            <a:ext cx="374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Grey matter ag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ed positioning based on the knowlegd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and a statistical computation: gaussian mixture model (grey matter + CSF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B993-6536-4D25-9606-B690EAB1829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C:\Mes Documents\Laurence\Images GIF\PositionGermesMG.gif"/>
          <p:cNvPicPr/>
          <p:nvPr/>
        </p:nvPicPr>
        <p:blipFill>
          <a:blip r:embed="rId1"/>
          <a:stretch/>
        </p:blipFill>
        <p:spPr>
          <a:xfrm>
            <a:off x="5029200" y="1066680"/>
            <a:ext cx="3522600" cy="2629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:\Mes Documents\Laurence\Images GIF\SelectEchantMG.gif"/>
          <p:cNvPicPr/>
          <p:nvPr/>
        </p:nvPicPr>
        <p:blipFill>
          <a:blip r:embed="rId2"/>
          <a:stretch/>
        </p:blipFill>
        <p:spPr>
          <a:xfrm>
            <a:off x="5181480" y="3581280"/>
            <a:ext cx="35337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White matter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eed positioning based on knowledge model + previous grey matter detection, within non segmented are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+ mean and variance comp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Espace réservé de la date 1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Espace réservé du pied de page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343-1E43-44D7-979A-B0850D4A7AD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C:\Mes Documents\Laurence\Images GIF\SelectEchantMB.gif"/>
          <p:cNvPicPr/>
          <p:nvPr/>
        </p:nvPicPr>
        <p:blipFill>
          <a:blip r:embed="rId1"/>
          <a:stretch/>
        </p:blipFill>
        <p:spPr>
          <a:xfrm>
            <a:off x="4800600" y="1752480"/>
            <a:ext cx="416556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Contour detection ag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Goal: refine initial brain deline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pproach: fusion between global and local contour detection + region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rinciple: dynamical program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BBE4-42B6-4371-8F8B-422E584AF60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C:\Mes Documents\Laurence\Images GIF\Chek643.gif"/>
          <p:cNvPicPr/>
          <p:nvPr/>
        </p:nvPicPr>
        <p:blipFill>
          <a:blip r:embed="rId1"/>
          <a:stretch/>
        </p:blipFill>
        <p:spPr>
          <a:xfrm>
            <a:off x="5638680" y="1600200"/>
            <a:ext cx="2197080" cy="2332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Mes Documents\Laurence\Images GIF\res643.gif"/>
          <p:cNvPicPr/>
          <p:nvPr/>
        </p:nvPicPr>
        <p:blipFill>
          <a:blip r:embed="rId2"/>
          <a:stretch/>
        </p:blipFill>
        <p:spPr>
          <a:xfrm>
            <a:off x="5791320" y="3962520"/>
            <a:ext cx="1969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2392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560" y="2971440"/>
            <a:ext cx="374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Issues: coherence of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ake advantage of the coherence and complementarity that exists between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5B5-2575-46D0-B036-D628B2979F5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9" descr="C:\Mes Documents\Laurence\Images GIF\Superpos643.gif"/>
          <p:cNvPicPr/>
          <p:nvPr/>
        </p:nvPicPr>
        <p:blipFill>
          <a:blip r:embed="rId1"/>
          <a:stretch/>
        </p:blipFill>
        <p:spPr>
          <a:xfrm>
            <a:off x="4741920" y="2090880"/>
            <a:ext cx="3932280" cy="417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Mes Documents\Laurence\Images GIF\Superpos643Zoom.gif"/>
          <p:cNvPicPr/>
          <p:nvPr/>
        </p:nvPicPr>
        <p:blipFill>
          <a:blip r:embed="rId2"/>
          <a:stretch/>
        </p:blipFill>
        <p:spPr>
          <a:xfrm>
            <a:off x="3632040" y="784080"/>
            <a:ext cx="1965600" cy="2084400"/>
          </a:xfrm>
          <a:prstGeom prst="rect">
            <a:avLst/>
          </a:prstGeom>
          <a:ln w="0">
            <a:noFill/>
          </a:ln>
        </p:spPr>
      </p:pic>
      <p:sp>
        <p:nvSpPr>
          <p:cNvPr id="380" name="Line 11"/>
          <p:cNvSpPr/>
          <p:nvPr/>
        </p:nvSpPr>
        <p:spPr>
          <a:xfrm>
            <a:off x="5603760" y="784080"/>
            <a:ext cx="1108080" cy="20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5603760" y="280836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 flipH="1" flipV="1">
            <a:off x="3631680" y="2873160"/>
            <a:ext cx="1971720" cy="13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374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zzy combination performed from the distance maps (Chamfer distanc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st function fi(p) for each pixel 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= (β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+ γ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) /(β+γ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With βand γ weights, to account for the difference in precision between the two information 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GM/CSF interface based on region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edge provided by the edge detecto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BA4C-B6FC-40BA-BB8E-A86829EA644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C:\Mes Documents\Laurence\Images GIF\toto.gif"/>
          <p:cNvPicPr/>
          <p:nvPr/>
        </p:nvPicPr>
        <p:blipFill>
          <a:blip r:embed="rId1"/>
          <a:stretch/>
        </p:blipFill>
        <p:spPr>
          <a:xfrm>
            <a:off x="4724280" y="1676520"/>
            <a:ext cx="3932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5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detected by the edge agents can be used as a replacement of the initial boundary detected by the deformable model, refining the initial contou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step uses confrontational cooperation: the initial model-based information is replaced by the newly computed one, judged more accur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whole segmentation process may then be launched ag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troaction on an adjacent slice in the image volume (2,5D processing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DF04-A8FE-42D5-AB74-F00AC284877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1" descr="A:\retro643.gif"/>
          <p:cNvPicPr/>
          <p:nvPr/>
        </p:nvPicPr>
        <p:blipFill>
          <a:blip r:embed="rId1"/>
          <a:stretch/>
        </p:blipFill>
        <p:spPr>
          <a:xfrm>
            <a:off x="4437000" y="1447920"/>
            <a:ext cx="435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7179"/>
          <p:cNvGrpSpPr/>
          <p:nvPr/>
        </p:nvGrpSpPr>
        <p:grpSpPr>
          <a:xfrm>
            <a:off x="5334120" y="1327320"/>
            <a:ext cx="2743200" cy="5346360"/>
            <a:chOff x="5334120" y="1327320"/>
            <a:chExt cx="2743200" cy="5346360"/>
          </a:xfrm>
        </p:grpSpPr>
        <p:grpSp>
          <p:nvGrpSpPr>
            <p:cNvPr id="396" name="Group 7180"/>
            <p:cNvGrpSpPr/>
            <p:nvPr/>
          </p:nvGrpSpPr>
          <p:grpSpPr>
            <a:xfrm>
              <a:off x="5372280" y="4876920"/>
              <a:ext cx="2685960" cy="1757880"/>
              <a:chOff x="5372280" y="4876920"/>
              <a:chExt cx="2685960" cy="1757880"/>
            </a:xfrm>
          </p:grpSpPr>
          <p:graphicFrame>
            <p:nvGraphicFramePr>
              <p:cNvPr id="397" name=""/>
              <p:cNvGraphicFramePr/>
              <p:nvPr/>
            </p:nvGraphicFramePr>
            <p:xfrm>
              <a:off x="5372280" y="4996080"/>
              <a:ext cx="2685960" cy="160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72280" y="4996080"/>
                        <a:ext cx="2685960" cy="16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9" name="Text Box 7182"/>
              <p:cNvSpPr/>
              <p:nvPr/>
            </p:nvSpPr>
            <p:spPr>
              <a:xfrm>
                <a:off x="7297560" y="64342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Text Box 7183"/>
              <p:cNvSpPr/>
              <p:nvPr/>
            </p:nvSpPr>
            <p:spPr>
              <a:xfrm>
                <a:off x="6398280" y="487692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7184"/>
              <p:cNvSpPr/>
              <p:nvPr/>
            </p:nvSpPr>
            <p:spPr>
              <a:xfrm>
                <a:off x="6737400" y="487692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7185"/>
              <p:cNvSpPr/>
              <p:nvPr/>
            </p:nvSpPr>
            <p:spPr>
              <a:xfrm rot="16200000">
                <a:off x="5222880" y="517968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186"/>
            <p:cNvGrpSpPr/>
            <p:nvPr/>
          </p:nvGrpSpPr>
          <p:grpSpPr>
            <a:xfrm>
              <a:off x="5372280" y="3227400"/>
              <a:ext cx="2704680" cy="1649520"/>
              <a:chOff x="5372280" y="3227400"/>
              <a:chExt cx="2704680" cy="1649520"/>
            </a:xfrm>
          </p:grpSpPr>
          <p:graphicFrame>
            <p:nvGraphicFramePr>
              <p:cNvPr id="404" name=""/>
              <p:cNvGraphicFramePr/>
              <p:nvPr/>
            </p:nvGraphicFramePr>
            <p:xfrm>
              <a:off x="5372280" y="3351240"/>
              <a:ext cx="2704680" cy="145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72280" y="3351240"/>
                        <a:ext cx="2704680" cy="14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6" name="Text Box 7188"/>
              <p:cNvSpPr/>
              <p:nvPr/>
            </p:nvSpPr>
            <p:spPr>
              <a:xfrm>
                <a:off x="7309440" y="467640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7189"/>
              <p:cNvSpPr/>
              <p:nvPr/>
            </p:nvSpPr>
            <p:spPr>
              <a:xfrm rot="16200000">
                <a:off x="5218200" y="34254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7190"/>
              <p:cNvSpPr/>
              <p:nvPr/>
            </p:nvSpPr>
            <p:spPr>
              <a:xfrm>
                <a:off x="6725160" y="359424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7191"/>
              <p:cNvSpPr/>
              <p:nvPr/>
            </p:nvSpPr>
            <p:spPr>
              <a:xfrm>
                <a:off x="7067520" y="322740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7192"/>
            <p:cNvGrpSpPr/>
            <p:nvPr/>
          </p:nvGrpSpPr>
          <p:grpSpPr>
            <a:xfrm>
              <a:off x="5372280" y="1371600"/>
              <a:ext cx="2685960" cy="4994280"/>
              <a:chOff x="5372280" y="1371600"/>
              <a:chExt cx="2685960" cy="4994280"/>
            </a:xfrm>
          </p:grpSpPr>
          <p:graphicFrame>
            <p:nvGraphicFramePr>
              <p:cNvPr id="411" name=""/>
              <p:cNvGraphicFramePr/>
              <p:nvPr/>
            </p:nvGraphicFramePr>
            <p:xfrm>
              <a:off x="5372280" y="1371600"/>
              <a:ext cx="2685960" cy="155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72280" y="1371600"/>
                        <a:ext cx="2685960" cy="155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3" name="Line 7194"/>
              <p:cNvSpPr/>
              <p:nvPr/>
            </p:nvSpPr>
            <p:spPr>
              <a:xfrm>
                <a:off x="6964200" y="1859040"/>
                <a:ext cx="0" cy="449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7195"/>
              <p:cNvSpPr/>
              <p:nvPr/>
            </p:nvSpPr>
            <p:spPr>
              <a:xfrm>
                <a:off x="7305840" y="1859040"/>
                <a:ext cx="0" cy="450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196"/>
              <p:cNvSpPr/>
              <p:nvPr/>
            </p:nvSpPr>
            <p:spPr>
              <a:xfrm>
                <a:off x="6622920" y="1859040"/>
                <a:ext cx="20880" cy="449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7197"/>
              <p:cNvSpPr/>
              <p:nvPr/>
            </p:nvSpPr>
            <p:spPr>
              <a:xfrm>
                <a:off x="7281720" y="27478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7198"/>
              <p:cNvSpPr/>
              <p:nvPr/>
            </p:nvSpPr>
            <p:spPr>
              <a:xfrm rot="16200000">
                <a:off x="5222880" y="15552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Rectangle 7199"/>
            <p:cNvSpPr/>
            <p:nvPr/>
          </p:nvSpPr>
          <p:spPr>
            <a:xfrm>
              <a:off x="5334120" y="4921200"/>
              <a:ext cx="2743200" cy="1752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7200"/>
            <p:cNvSpPr/>
            <p:nvPr/>
          </p:nvSpPr>
          <p:spPr>
            <a:xfrm>
              <a:off x="5334120" y="3124080"/>
              <a:ext cx="2743200" cy="1752840"/>
            </a:xfrm>
            <a:prstGeom prst="rect">
              <a:avLst/>
            </a:prstGeom>
            <a:noFill/>
            <a:ln w="2844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201"/>
            <p:cNvSpPr/>
            <p:nvPr/>
          </p:nvSpPr>
          <p:spPr>
            <a:xfrm>
              <a:off x="5334120" y="1327320"/>
              <a:ext cx="274320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4114800"/>
            <a:ext cx="374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. Scherrer, M. Dojat, F. Forbes, C. Garbay, Agentification of Markov model-based segmentation: Application to magnetic resonance brain scans, Artificial Intelligence in Medicine 46(1): 81-95 (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Espace réservé de la date 2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pied de page 3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Espace réservé du numéro de diapositive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DF5-CF2D-4D5E-8D6D-3B3EFCE7B45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3" descr="D:\Mes Documents\These\ProjetLOCUS\Documents\Mémoire\chapter4\imgs\partitioning.png"/>
          <p:cNvPicPr/>
          <p:nvPr/>
        </p:nvPicPr>
        <p:blipFill>
          <a:blip r:embed="rId7"/>
          <a:stretch/>
        </p:blipFill>
        <p:spPr>
          <a:xfrm>
            <a:off x="1523880" y="1447920"/>
            <a:ext cx="2895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Multi-agent system for advanced information processing in medic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 – Image Processing: a decentralized vie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I – Multi-agent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fb05a"/>
                </a:solidFill>
                <a:latin typeface="Perpetua"/>
              </a:rPr>
              <a:t>Part III – A Cooperative Framework for Brain MRI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V – Ambient Intelligence: the case of monitor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 – Normative Multi-Agent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 – Abductive Agents for Human Activity Monito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I – Evaluative Exper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852-74FD-4E4F-9BFD-B3E7FB568CD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-852480" y="5769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824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segmentation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estimate local intensity model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Segmentation: 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introduce  knowledge based on Fuzzy Spatial Relation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rkovian segmentation framework for a robust to noise segmentation,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ithout any bias field modelizati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nd Structure segmentation are linked and mutually improve (integr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5916-27E4-4BCB-A34B-0D4C3C421A8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lèche courbée vers la droite 56"/>
          <p:cNvSpPr/>
          <p:nvPr/>
        </p:nvSpPr>
        <p:spPr>
          <a:xfrm rot="10800000">
            <a:off x="8229240" y="2133720"/>
            <a:ext cx="685800" cy="2643120"/>
          </a:xfrm>
          <a:custGeom>
            <a:avLst/>
            <a:gdLst>
              <a:gd name="textAreaLeft" fmla="*/ 91800 w 685800"/>
              <a:gd name="textAreaRight" fmla="*/ 594000 w 685800"/>
              <a:gd name="textAreaTop" fmla="*/ 528480 h 2643120"/>
              <a:gd name="textAreaBottom" fmla="*/ 1757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0043"/>
                </a:lnTo>
                <a:arcTo wR="21600" hR="8640" stAng="10800000" swAng="-3429472"/>
                <a:lnTo>
                  <a:pt x="16200" y="21326"/>
                </a:lnTo>
                <a:lnTo>
                  <a:pt x="21600" y="17982"/>
                </a:lnTo>
                <a:lnTo>
                  <a:pt x="16200" y="14089"/>
                </a:lnTo>
                <a:lnTo>
                  <a:pt x="16200" y="17006"/>
                </a:lnTo>
                <a:arcTo wR="21600" hR="8640" stAng="7370528" swAng="3317495"/>
                <a:lnTo>
                  <a:pt x="71" y="9342"/>
                </a:lnTo>
                <a:arcTo wR="21600" hR="8640" stAng="-10688023" swAng="5288023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111977"/>
                <a:lnTo>
                  <a:pt x="71" y="9342"/>
                </a:lnTo>
                <a:arcTo wR="21600" hR="8640" stAng="-10688023" swAng="5288023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lèche courbée vers la droite 56"/>
          <p:cNvSpPr/>
          <p:nvPr/>
        </p:nvSpPr>
        <p:spPr>
          <a:xfrm>
            <a:off x="4572000" y="2286000"/>
            <a:ext cx="657360" cy="2643120"/>
          </a:xfrm>
          <a:custGeom>
            <a:avLst/>
            <a:gdLst>
              <a:gd name="textAreaLeft" fmla="*/ 87840 w 657360"/>
              <a:gd name="textAreaRight" fmla="*/ 569520 w 657360"/>
              <a:gd name="textAreaTop" fmla="*/ 533880 h 2643120"/>
              <a:gd name="textAreaBottom" fmla="*/ 17668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075"/>
                </a:lnTo>
                <a:arcTo wR="21600" hR="8730" stAng="10800000" swAng="-3445670"/>
                <a:lnTo>
                  <a:pt x="16200" y="21323"/>
                </a:lnTo>
                <a:lnTo>
                  <a:pt x="21600" y="18133"/>
                </a:lnTo>
                <a:lnTo>
                  <a:pt x="16200" y="14388"/>
                </a:lnTo>
                <a:lnTo>
                  <a:pt x="16200" y="17183"/>
                </a:lnTo>
                <a:arcTo wR="21600" hR="8730" stAng="7354330" swAng="3338354"/>
                <a:lnTo>
                  <a:pt x="64" y="9402"/>
                </a:lnTo>
                <a:arcTo wR="21600" hR="8730" stAng="-10692684" swAng="5292684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07316"/>
                <a:lnTo>
                  <a:pt x="64" y="9402"/>
                </a:lnTo>
                <a:arcTo wR="21600" hR="8730" stAng="-10692684" swAng="529268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8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97200" cy="190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D:\Mes Documents\These\ProjetLOCUS\Documents\Publications\MICCAI2007\imgs\bw_struct3d.png"/>
          <p:cNvPicPr/>
          <p:nvPr/>
        </p:nvPicPr>
        <p:blipFill>
          <a:blip r:embed="rId2"/>
          <a:stretch/>
        </p:blipFill>
        <p:spPr>
          <a:xfrm>
            <a:off x="5791320" y="3733920"/>
            <a:ext cx="152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80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0" name="Picture 1028" descr="_x0008_Fig3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533520" y="1160640"/>
            <a:ext cx="8259480" cy="4663800"/>
          </a:xfrm>
          <a:prstGeom prst="rect">
            <a:avLst/>
          </a:prstGeom>
          <a:ln w="0">
            <a:noFill/>
          </a:ln>
        </p:spPr>
      </p:pic>
      <p:sp>
        <p:nvSpPr>
          <p:cNvPr id="44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E23-94AD-4CED-8533-8D92A26A1A0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gents (CSF, GM, WM) estimate local intensity mod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ucture agents (Frontal Horn, Caudate Nucleus…) use fuzzy spatial knowledge and perform fuzzy structure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or each agent : a local MRF model (augmentative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operation mechanisms between agent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front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Tissue Agents to build local but consistent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tructure Agents: to build and update the spatial relation map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gr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Structure Agents: Each structure is composed of a tissue: tissue agents provide tissue intensity models to structure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 Tissue Agents : Feedback of structure segmentation on Tissue seg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9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F27-06D5-4A77-901A-4D26B338ECB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2" descr=""/>
          <p:cNvPicPr/>
          <p:nvPr/>
        </p:nvPicPr>
        <p:blipFill>
          <a:blip r:embed="rId1"/>
          <a:stretch/>
        </p:blipFill>
        <p:spPr>
          <a:xfrm>
            <a:off x="923760" y="1557360"/>
            <a:ext cx="3143520" cy="900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1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592360" cy="1162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3"/>
          <p:cNvSpPr/>
          <p:nvPr/>
        </p:nvSpPr>
        <p:spPr>
          <a:xfrm>
            <a:off x="71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71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3"/>
          <a:stretch/>
        </p:blipFill>
        <p:spPr>
          <a:xfrm>
            <a:off x="898560" y="3809880"/>
            <a:ext cx="3305160" cy="951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7" descr=""/>
          <p:cNvPicPr/>
          <p:nvPr/>
        </p:nvPicPr>
        <p:blipFill>
          <a:blip r:embed="rId4"/>
          <a:stretch/>
        </p:blipFill>
        <p:spPr>
          <a:xfrm>
            <a:off x="828720" y="4727520"/>
            <a:ext cx="3541680" cy="13478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9"/>
          <p:cNvSpPr/>
          <p:nvPr/>
        </p:nvSpPr>
        <p:spPr>
          <a:xfrm>
            <a:off x="712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12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193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mportance of subvolumes s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40x40x40 voxels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ood representation of tissue classes to ensure a reliable model estima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Not really local, so sensitive to inhomogeneit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10x10x10 vox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re local, so more robust to inhomogeneiti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But under-representation of tissue classes to ensure a reliable model esti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Espace réservé de la date 2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Espace réservé du pied de page 2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Espace réservé du numéro de diapositive 18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4FF5-6686-4CC3-8F94-35461EC8401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Espace réservé de la date 2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Espace réservé du pied de page 2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808-1C70-4450-B2C5-A2AB569F0295}" type="slidenum"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31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384720" cy="18288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27"/>
          <p:cNvSpPr/>
          <p:nvPr/>
        </p:nvSpPr>
        <p:spPr>
          <a:xfrm>
            <a:off x="4191120" y="2209680"/>
            <a:ext cx="68580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179280" y="1123920"/>
            <a:ext cx="4214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4680000" y="1123920"/>
            <a:ext cx="4321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33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100160" cy="1317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4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130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5"/>
          <p:cNvSpPr/>
          <p:nvPr/>
        </p:nvSpPr>
        <p:spPr>
          <a:xfrm>
            <a:off x="457200" y="1295280"/>
            <a:ext cx="358128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issue Agents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0 to 1500 local agents) working over sub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 markovian segmentation with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=3 {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CR, MG, M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neighbouring tissue agents, to preserve global consistency of local intensity models, and with structure agents, to benefit from dynamically computed  anatom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105520" y="1295280"/>
            <a:ext cx="359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ure agents (9 agents) working over spati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kovian segmentation with K=2 (structure/non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tissue agents to compute their intensity models, and with structure agents to build and update their ow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2600">
              <a:spcBef>
                <a:spcPts val="451"/>
              </a:spcBef>
              <a:buClr>
                <a:srgbClr val="e9e5d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7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633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e la date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Espace réservé du pied de page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5B0F-6240-44B1-97E4-F3E8DD55102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3" descr="_x0008_Fig1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685800" y="179280"/>
            <a:ext cx="7772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ation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bels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rform the image segmentation (tissues) : maximize over z the prob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atial dependencies between voxels, providing a labeling regularization and a robust to noise seg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riori knowledge of the brain spatial organ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-Based algorith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199B-351B-4218-94CF-B4D4CE2CAB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124080" y="1219320"/>
          <a:ext cx="12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12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38680" y="1219320"/>
          <a:ext cx="13525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219320"/>
                    <a:ext cx="1352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32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6429600" cy="513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7"/>
          <p:cNvSpPr/>
          <p:nvPr/>
        </p:nvSpPr>
        <p:spPr>
          <a:xfrm>
            <a:off x="3657600" y="5029200"/>
            <a:ext cx="1905120" cy="58068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 regulariza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9"/>
          <p:cNvSpPr/>
          <p:nvPr/>
        </p:nvSpPr>
        <p:spPr>
          <a:xfrm>
            <a:off x="609480" y="4876920"/>
            <a:ext cx="2843280" cy="106740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field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 posteriori probabilities of overl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0" descr=""/>
          <p:cNvPicPr/>
          <p:nvPr/>
        </p:nvPicPr>
        <p:blipFill>
          <a:blip r:embed="rId6"/>
          <a:stretch/>
        </p:blipFill>
        <p:spPr>
          <a:xfrm>
            <a:off x="1905120" y="4114800"/>
            <a:ext cx="5925960" cy="7491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5791320" y="5029200"/>
            <a:ext cx="2257200" cy="82404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riven term, based on intensities gaussi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6690960" y="4686480"/>
            <a:ext cx="1429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 flipV="1">
            <a:off x="3262320" y="468648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 flipV="1">
            <a:off x="5262480" y="468648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8" descr=""/>
          <p:cNvPicPr/>
          <p:nvPr/>
        </p:nvPicPr>
        <p:blipFill>
          <a:blip r:embed="rId1"/>
          <a:stretch/>
        </p:blipFill>
        <p:spPr>
          <a:xfrm>
            <a:off x="6585120" y="3683160"/>
            <a:ext cx="1239840" cy="1049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9" descr=""/>
          <p:cNvPicPr/>
          <p:nvPr/>
        </p:nvPicPr>
        <p:blipFill>
          <a:blip r:embed="rId2"/>
          <a:stretch/>
        </p:blipFill>
        <p:spPr>
          <a:xfrm>
            <a:off x="7299360" y="4325760"/>
            <a:ext cx="1249200" cy="1170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7"/>
          <p:cNvSpPr/>
          <p:nvPr/>
        </p:nvSpPr>
        <p:spPr>
          <a:xfrm rot="2881200">
            <a:off x="6546240" y="4750200"/>
            <a:ext cx="987480" cy="214560"/>
          </a:xfrm>
          <a:prstGeom prst="rightArrow">
            <a:avLst>
              <a:gd name="adj1" fmla="val 50000"/>
              <a:gd name="adj2" fmla="val 114206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and cooperative EM Algorith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hecking: compute a local mean model over  neighbou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orrection : if necessary,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corrected model from a linear combination of estimated  and mean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Interpola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one intensity model per voxel with cubic-spline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sures smooth model variation between neighbo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ndles nonuniformity of intensity inside each ag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cal easy-to-segment subvolumes converge quickly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owing the system to focus on other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Espace réservé du pied de pag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9668-C042-4319-B349-3134C4EA148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à coins arrondis 33"/>
          <p:cNvSpPr/>
          <p:nvPr/>
        </p:nvSpPr>
        <p:spPr>
          <a:xfrm>
            <a:off x="3071880" y="1071720"/>
            <a:ext cx="4929120" cy="464328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à coins arrondis 32"/>
          <p:cNvSpPr/>
          <p:nvPr/>
        </p:nvSpPr>
        <p:spPr>
          <a:xfrm>
            <a:off x="2857680" y="1214280"/>
            <a:ext cx="5429160" cy="47149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à coins arrondis 31"/>
          <p:cNvSpPr/>
          <p:nvPr/>
        </p:nvSpPr>
        <p:spPr>
          <a:xfrm>
            <a:off x="2643120" y="1357200"/>
            <a:ext cx="5857920" cy="46436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Espace réservé de la date 4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Espace réservé du pied de page 4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D72-93D2-4D64-A848-FF177D74F80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à coins arrondis 25"/>
          <p:cNvSpPr/>
          <p:nvPr/>
        </p:nvSpPr>
        <p:spPr>
          <a:xfrm>
            <a:off x="2428920" y="1500120"/>
            <a:ext cx="6215040" cy="50720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à coins arrondis 102"/>
          <p:cNvSpPr/>
          <p:nvPr/>
        </p:nvSpPr>
        <p:spPr>
          <a:xfrm>
            <a:off x="2714760" y="3071880"/>
            <a:ext cx="5786280" cy="335736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Text Box 10"/>
          <p:cNvGrpSpPr/>
          <p:nvPr/>
        </p:nvGrpSpPr>
        <p:grpSpPr>
          <a:xfrm>
            <a:off x="3187800" y="1560600"/>
            <a:ext cx="2049480" cy="390600"/>
            <a:chOff x="3187800" y="1560600"/>
            <a:chExt cx="2049480" cy="390600"/>
          </a:xfrm>
        </p:grpSpPr>
        <p:pic>
          <p:nvPicPr>
            <p:cNvPr id="512" name="Text Box 10" descr=""/>
            <p:cNvPicPr/>
            <p:nvPr/>
          </p:nvPicPr>
          <p:blipFill>
            <a:blip r:embed="rId1"/>
            <a:stretch/>
          </p:blipFill>
          <p:spPr>
            <a:xfrm>
              <a:off x="3187800" y="1560600"/>
              <a:ext cx="2049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14800" y="1590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nt 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à coins arrondis 34"/>
          <p:cNvSpPr/>
          <p:nvPr/>
        </p:nvSpPr>
        <p:spPr>
          <a:xfrm>
            <a:off x="533520" y="1752480"/>
            <a:ext cx="990360" cy="990720"/>
          </a:xfrm>
          <a:custGeom>
            <a:avLst/>
            <a:gdLst>
              <a:gd name="textAreaLeft" fmla="*/ 54720 w 990360"/>
              <a:gd name="textAreaRight" fmla="*/ 935640 w 990360"/>
              <a:gd name="textAreaTop" fmla="*/ 54720 h 990720"/>
              <a:gd name="textAreaBottom" fmla="*/ 936000 h 990720"/>
            </a:gdLst>
            <a:ahLst/>
            <a:rect l="textAreaLeft" t="textAreaTop" r="textAreaRight" b="textAreaBottom"/>
            <a:pathLst>
              <a:path w="21600" h="21608">
                <a:moveTo>
                  <a:pt x="4091" y="0"/>
                </a:moveTo>
                <a:arcTo wR="4091" hR="4091" stAng="16200000" swAng="-5400000"/>
                <a:lnTo>
                  <a:pt x="0" y="17517"/>
                </a:lnTo>
                <a:arcTo wR="4091" hR="4091" stAng="10800000" swAng="-5400000"/>
                <a:lnTo>
                  <a:pt x="17509" y="21608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ogner un rectangle avec un coin diagonal 48"/>
          <p:cNvSpPr/>
          <p:nvPr/>
        </p:nvSpPr>
        <p:spPr>
          <a:xfrm>
            <a:off x="3929040" y="2071800"/>
            <a:ext cx="3429000" cy="357120"/>
          </a:xfrm>
          <a:prstGeom prst="pie">
            <a:avLst/>
          </a:prstGeom>
          <a:solidFill>
            <a:srgbClr val="d0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Text Box 10"/>
          <p:cNvGrpSpPr/>
          <p:nvPr/>
        </p:nvGrpSpPr>
        <p:grpSpPr>
          <a:xfrm>
            <a:off x="6900840" y="5688000"/>
            <a:ext cx="1548000" cy="633600"/>
            <a:chOff x="6900840" y="5688000"/>
            <a:chExt cx="1548000" cy="633600"/>
          </a:xfrm>
        </p:grpSpPr>
        <p:pic>
          <p:nvPicPr>
            <p:cNvPr id="517" name="Text Box 10" descr=""/>
            <p:cNvPicPr/>
            <p:nvPr/>
          </p:nvPicPr>
          <p:blipFill>
            <a:blip r:embed="rId2"/>
            <a:stretch/>
          </p:blipFill>
          <p:spPr>
            <a:xfrm>
              <a:off x="6900840" y="5688000"/>
              <a:ext cx="1548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6929280" y="571500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Connecteur en arc 52"/>
          <p:cNvCxnSpPr/>
          <p:nvPr/>
        </p:nvCxnSpPr>
        <p:spPr>
          <a:xfrm>
            <a:off x="6572160" y="600084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20" name="Text Box 10"/>
          <p:cNvGrpSpPr/>
          <p:nvPr/>
        </p:nvGrpSpPr>
        <p:grpSpPr>
          <a:xfrm>
            <a:off x="6114960" y="2541600"/>
            <a:ext cx="1766880" cy="390600"/>
            <a:chOff x="6114960" y="2541600"/>
            <a:chExt cx="1766880" cy="390600"/>
          </a:xfrm>
        </p:grpSpPr>
        <p:pic>
          <p:nvPicPr>
            <p:cNvPr id="521" name="Text Box 10" descr=""/>
            <p:cNvPicPr/>
            <p:nvPr/>
          </p:nvPicPr>
          <p:blipFill>
            <a:blip r:embed="rId3"/>
            <a:stretch/>
          </p:blipFill>
          <p:spPr>
            <a:xfrm>
              <a:off x="6114960" y="2541600"/>
              <a:ext cx="1766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6143760" y="25718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Forme libre 89"/>
          <p:cNvSpPr/>
          <p:nvPr/>
        </p:nvSpPr>
        <p:spPr>
          <a:xfrm>
            <a:off x="7072200" y="1785960"/>
            <a:ext cx="1322640" cy="39258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nnecteur droit 91"/>
          <p:cNvSpPr/>
          <p:nvPr/>
        </p:nvSpPr>
        <p:spPr>
          <a:xfrm>
            <a:off x="7072200" y="2073240"/>
            <a:ext cx="1800" cy="426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Connecteur droit avec flèche 93"/>
          <p:cNvCxnSpPr/>
          <p:nvPr/>
        </p:nvCxnSpPr>
        <p:spPr>
          <a:xfrm flipH="1">
            <a:off x="7071480" y="2428560"/>
            <a:ext cx="25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Connecteur droit 97"/>
          <p:cNvSpPr/>
          <p:nvPr/>
        </p:nvSpPr>
        <p:spPr>
          <a:xfrm flipH="1">
            <a:off x="4642920" y="1928880"/>
            <a:ext cx="18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nnecteur droit 99"/>
          <p:cNvSpPr/>
          <p:nvPr/>
        </p:nvSpPr>
        <p:spPr>
          <a:xfrm flipH="1">
            <a:off x="4642920" y="207180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Connecteur droit avec flèche 101"/>
          <p:cNvCxnSpPr/>
          <p:nvPr/>
        </p:nvCxnSpPr>
        <p:spPr>
          <a:xfrm flipH="1">
            <a:off x="4642560" y="242892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Connecteur droit avec flèche 105"/>
          <p:cNvCxnSpPr/>
          <p:nvPr/>
        </p:nvCxnSpPr>
        <p:spPr>
          <a:xfrm flipH="1">
            <a:off x="7000560" y="2911320"/>
            <a:ext cx="2160" cy="16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Connecteur droit avec flèche 107"/>
          <p:cNvCxnSpPr/>
          <p:nvPr/>
        </p:nvCxnSpPr>
        <p:spPr>
          <a:xfrm flipV="1">
            <a:off x="6858000" y="2428200"/>
            <a:ext cx="216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Flèche courbée vers la gauche 108"/>
          <p:cNvSpPr/>
          <p:nvPr/>
        </p:nvSpPr>
        <p:spPr>
          <a:xfrm flipV="1" rot="1210200">
            <a:off x="8569080" y="4953600"/>
            <a:ext cx="569880" cy="1071360"/>
          </a:xfrm>
          <a:custGeom>
            <a:avLst/>
            <a:gdLst>
              <a:gd name="textAreaLeft" fmla="*/ 76320 w 569880"/>
              <a:gd name="textAreaRight" fmla="*/ 493560 w 569880"/>
              <a:gd name="textAreaTop" fmla="*/ 184320 h 1071360"/>
              <a:gd name="textAreaBottom" fmla="*/ 61164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èche courbée vers la gauche 109"/>
          <p:cNvSpPr/>
          <p:nvPr/>
        </p:nvSpPr>
        <p:spPr>
          <a:xfrm flipV="1" rot="8542800">
            <a:off x="2099520" y="3783960"/>
            <a:ext cx="569880" cy="1071720"/>
          </a:xfrm>
          <a:custGeom>
            <a:avLst/>
            <a:gdLst>
              <a:gd name="textAreaLeft" fmla="*/ 76320 w 569880"/>
              <a:gd name="textAreaRight" fmla="*/ 493560 w 569880"/>
              <a:gd name="textAreaTop" fmla="*/ 183600 h 1071720"/>
              <a:gd name="textAreaBottom" fmla="*/ 611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lèche vers le haut 111"/>
          <p:cNvSpPr/>
          <p:nvPr/>
        </p:nvSpPr>
        <p:spPr>
          <a:xfrm rot="5400000">
            <a:off x="2571840" y="1142640"/>
            <a:ext cx="357120" cy="2214720"/>
          </a:xfrm>
          <a:prstGeom prst="upArrow">
            <a:avLst>
              <a:gd name="adj1" fmla="val 23333"/>
              <a:gd name="adj2" fmla="val 36664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ZoneTexte 112"/>
          <p:cNvSpPr/>
          <p:nvPr/>
        </p:nvSpPr>
        <p:spPr>
          <a:xfrm>
            <a:off x="500040" y="179064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lèche courbée vers la gauche 113"/>
          <p:cNvSpPr/>
          <p:nvPr/>
        </p:nvSpPr>
        <p:spPr>
          <a:xfrm rot="1784400">
            <a:off x="8100720" y="1303200"/>
            <a:ext cx="438120" cy="1384560"/>
          </a:xfrm>
          <a:custGeom>
            <a:avLst/>
            <a:gdLst>
              <a:gd name="textAreaLeft" fmla="*/ 58680 w 438120"/>
              <a:gd name="textAreaRight" fmla="*/ 379440 w 438120"/>
              <a:gd name="textAreaTop" fmla="*/ 281520 h 1384560"/>
              <a:gd name="textAreaBottom" fmla="*/ 89064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1721158"/>
                <a:lnTo>
                  <a:pt x="12888" y="19864"/>
                </a:lnTo>
                <a:lnTo>
                  <a:pt x="0" y="17931"/>
                </a:lnTo>
                <a:lnTo>
                  <a:pt x="12888" y="12525"/>
                </a:lnTo>
                <a:lnTo>
                  <a:pt x="12888" y="15839"/>
                </a:lnTo>
                <a:arcTo wR="21600" hR="8788" stAng="1721158" swAng="-1664538"/>
                <a:lnTo>
                  <a:pt x="21582" y="9143"/>
                </a:lnTo>
                <a:arcTo wR="21600" hR="8788" stAng="-56621" swAng="-5343379"/>
                <a:close/>
              </a:path>
              <a:path fill="darkenLess"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-56621"/>
                <a:lnTo>
                  <a:pt x="21582" y="9143"/>
                </a:lnTo>
                <a:arcTo wR="21600" hR="8788" stAng="-56621" swAng="-534337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Connecteur droit avec flèche 115"/>
          <p:cNvCxnSpPr>
            <a:stCxn id="523" idx="11"/>
            <a:endCxn id="523" idx="12"/>
          </p:cNvCxnSpPr>
          <p:nvPr/>
        </p:nvCxnSpPr>
        <p:spPr>
          <a:xfrm flipH="1">
            <a:off x="7071480" y="1949400"/>
            <a:ext cx="10440" cy="12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ZoneTexte 124"/>
          <p:cNvSpPr/>
          <p:nvPr/>
        </p:nvSpPr>
        <p:spPr>
          <a:xfrm>
            <a:off x="350028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Local Tissu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e 38"/>
          <p:cNvGrpSpPr/>
          <p:nvPr/>
        </p:nvGrpSpPr>
        <p:grpSpPr>
          <a:xfrm>
            <a:off x="3886200" y="3214800"/>
            <a:ext cx="3328920" cy="2571480"/>
            <a:chOff x="3886200" y="3214800"/>
            <a:chExt cx="3328920" cy="2571480"/>
          </a:xfrm>
        </p:grpSpPr>
        <p:sp>
          <p:nvSpPr>
            <p:cNvPr id="539" name="Ellipse 10"/>
            <p:cNvSpPr/>
            <p:nvPr/>
          </p:nvSpPr>
          <p:spPr>
            <a:xfrm>
              <a:off x="3886200" y="3214800"/>
              <a:ext cx="3328920" cy="257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Connecteur droit avec flèche 37"/>
            <p:cNvCxnSpPr>
              <a:stCxn id="539" idx="5"/>
            </p:cNvCxnSpPr>
            <p:nvPr/>
          </p:nvCxnSpPr>
          <p:spPr>
            <a:xfrm flipV="1">
              <a:off x="6726960" y="5285520"/>
              <a:ext cx="130680" cy="12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Connecteur droit avec flèche 39"/>
            <p:cNvCxnSpPr>
              <a:stCxn id="539" idx="7"/>
            </p:cNvCxnSpPr>
            <p:nvPr/>
          </p:nvCxnSpPr>
          <p:spPr>
            <a:xfrm flipH="1" flipV="1">
              <a:off x="6572160" y="3499560"/>
              <a:ext cx="155880" cy="9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2" name="Text Box 10"/>
          <p:cNvGrpSpPr/>
          <p:nvPr/>
        </p:nvGrpSpPr>
        <p:grpSpPr>
          <a:xfrm>
            <a:off x="6400800" y="4187880"/>
            <a:ext cx="1768320" cy="633240"/>
            <a:chOff x="6400800" y="4187880"/>
            <a:chExt cx="1768320" cy="633240"/>
          </a:xfrm>
        </p:grpSpPr>
        <p:pic>
          <p:nvPicPr>
            <p:cNvPr id="543" name="Text Box 10" descr=""/>
            <p:cNvPicPr/>
            <p:nvPr/>
          </p:nvPicPr>
          <p:blipFill>
            <a:blip r:embed="rId4"/>
            <a:stretch/>
          </p:blipFill>
          <p:spPr>
            <a:xfrm>
              <a:off x="6400800" y="4187880"/>
              <a:ext cx="1768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29240" y="42148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prob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Text Box 10"/>
          <p:cNvGrpSpPr/>
          <p:nvPr/>
        </p:nvGrpSpPr>
        <p:grpSpPr>
          <a:xfrm>
            <a:off x="3571920" y="3260880"/>
            <a:ext cx="1762200" cy="634680"/>
            <a:chOff x="3571920" y="3260880"/>
            <a:chExt cx="1762200" cy="634680"/>
          </a:xfrm>
        </p:grpSpPr>
        <p:pic>
          <p:nvPicPr>
            <p:cNvPr id="546" name="Text Box 10" descr=""/>
            <p:cNvPicPr/>
            <p:nvPr/>
          </p:nvPicPr>
          <p:blipFill>
            <a:blip r:embed="rId5"/>
            <a:stretch/>
          </p:blipFill>
          <p:spPr>
            <a:xfrm>
              <a:off x="3571920" y="3260880"/>
              <a:ext cx="1762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600360" y="32860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Model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Text Box 10"/>
          <p:cNvGrpSpPr/>
          <p:nvPr/>
        </p:nvGrpSpPr>
        <p:grpSpPr>
          <a:xfrm>
            <a:off x="2786040" y="3975120"/>
            <a:ext cx="1981080" cy="706320"/>
            <a:chOff x="2786040" y="3975120"/>
            <a:chExt cx="1981080" cy="706320"/>
          </a:xfrm>
        </p:grpSpPr>
        <p:pic>
          <p:nvPicPr>
            <p:cNvPr id="549" name="Text Box 10" descr=""/>
            <p:cNvPicPr/>
            <p:nvPr/>
          </p:nvPicPr>
          <p:blipFill>
            <a:blip r:embed="rId6"/>
            <a:stretch/>
          </p:blipFill>
          <p:spPr>
            <a:xfrm>
              <a:off x="2786040" y="3975120"/>
              <a:ext cx="19810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814480" y="4000680"/>
              <a:ext cx="1928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ver neighbourh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Text Box 10"/>
          <p:cNvGrpSpPr/>
          <p:nvPr/>
        </p:nvGrpSpPr>
        <p:grpSpPr>
          <a:xfrm>
            <a:off x="2828880" y="4780080"/>
            <a:ext cx="2193840" cy="382320"/>
            <a:chOff x="2828880" y="4780080"/>
            <a:chExt cx="2193840" cy="382320"/>
          </a:xfrm>
        </p:grpSpPr>
        <p:pic>
          <p:nvPicPr>
            <p:cNvPr id="552" name="Text Box 10" descr=""/>
            <p:cNvPicPr/>
            <p:nvPr/>
          </p:nvPicPr>
          <p:blipFill>
            <a:blip r:embed="rId7"/>
            <a:stretch/>
          </p:blipFill>
          <p:spPr>
            <a:xfrm>
              <a:off x="2828880" y="4780080"/>
              <a:ext cx="2193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857680" y="48052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Text Box 10"/>
          <p:cNvGrpSpPr/>
          <p:nvPr/>
        </p:nvGrpSpPr>
        <p:grpSpPr>
          <a:xfrm>
            <a:off x="3255840" y="5261040"/>
            <a:ext cx="2022480" cy="384120"/>
            <a:chOff x="3255840" y="5261040"/>
            <a:chExt cx="2022480" cy="384120"/>
          </a:xfrm>
        </p:grpSpPr>
        <p:pic>
          <p:nvPicPr>
            <p:cNvPr id="555" name="Text Box 10" descr=""/>
            <p:cNvPicPr/>
            <p:nvPr/>
          </p:nvPicPr>
          <p:blipFill>
            <a:blip r:embed="rId8"/>
            <a:stretch/>
          </p:blipFill>
          <p:spPr>
            <a:xfrm>
              <a:off x="3255840" y="5261040"/>
              <a:ext cx="20224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286080" y="528624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Organigramme : Décision 35"/>
          <p:cNvGrpSpPr/>
          <p:nvPr/>
        </p:nvGrpSpPr>
        <p:grpSpPr>
          <a:xfrm>
            <a:off x="4516560" y="5614920"/>
            <a:ext cx="2103480" cy="766800"/>
            <a:chOff x="4516560" y="5614920"/>
            <a:chExt cx="2103480" cy="766800"/>
          </a:xfrm>
        </p:grpSpPr>
        <p:pic>
          <p:nvPicPr>
            <p:cNvPr id="558" name="Organigramme : Décision 35" descr=""/>
            <p:cNvPicPr/>
            <p:nvPr/>
          </p:nvPicPr>
          <p:blipFill>
            <a:blip r:embed="rId9"/>
            <a:stretch/>
          </p:blipFill>
          <p:spPr>
            <a:xfrm>
              <a:off x="4516560" y="5614920"/>
              <a:ext cx="2103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072040" y="5823000"/>
              <a:ext cx="100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bil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72872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Connecteur droit 41"/>
          <p:cNvSpPr/>
          <p:nvPr/>
        </p:nvSpPr>
        <p:spPr>
          <a:xfrm flipV="1">
            <a:off x="1066680" y="1857240"/>
            <a:ext cx="1362240" cy="210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nnecteur droit 43"/>
          <p:cNvSpPr/>
          <p:nvPr/>
        </p:nvSpPr>
        <p:spPr>
          <a:xfrm>
            <a:off x="1066680" y="4191120"/>
            <a:ext cx="1433520" cy="21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onnecteur droit 45"/>
          <p:cNvSpPr/>
          <p:nvPr/>
        </p:nvSpPr>
        <p:spPr>
          <a:xfrm>
            <a:off x="1371600" y="3962520"/>
            <a:ext cx="985680" cy="25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onnecteur droit 47"/>
          <p:cNvSpPr/>
          <p:nvPr/>
        </p:nvSpPr>
        <p:spPr>
          <a:xfrm>
            <a:off x="1295280" y="4191120"/>
            <a:ext cx="1133640" cy="1095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one localized Structure Agent per Stru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 each structure agent AlS, a local MRF model M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2 Class Segmentation :  structure /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Espace réservé de la date 1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Espace réservé du pied de page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41B-5C66-4737-A0FD-01D6AA3251E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643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Part III – A Cooperative Framework for Brain MRI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. Magnetic resonance imaging (MRI) in brie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. A distributed, cooperative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I. Distributed Local MRF Models for Tissue and Structure Brain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833E-CA3E-4C45-92B7-72DF33EAFC4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Describe the brain anatomy according to stable relations between structures [Bloch I., 1999]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eneric and stable spatial relations provided by a brain anatomist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« The left caudate nucleus is at less than 5mm from the left frontal horn », « The right thalamus is below the right frontal horn »,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A fuzzy knowledge frame to cope with the heavy inter-individual variability of the bra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xpressed via 3D fuzzy maps representing relations of distance, orientation (between structures), and symetry of the brain anatomy, followed by a fusion ste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Espace réservé de la date 3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Espace réservé du pied de page 3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E6C-C170-49A0-B495-00A5736C1E1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08360" cy="1511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33420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4"/>
          <a:stretch/>
        </p:blipFill>
        <p:spPr>
          <a:xfrm>
            <a:off x="7412040" y="2209680"/>
            <a:ext cx="101772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6"/>
          <a:stretch/>
        </p:blipFill>
        <p:spPr>
          <a:xfrm>
            <a:off x="58514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7"/>
          <a:stretch/>
        </p:blipFill>
        <p:spPr>
          <a:xfrm>
            <a:off x="69008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8"/>
          <a:stretch/>
        </p:blipFill>
        <p:spPr>
          <a:xfrm>
            <a:off x="795168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/>
          <p:cNvPicPr/>
          <p:nvPr/>
        </p:nvPicPr>
        <p:blipFill>
          <a:blip r:embed="rId9"/>
          <a:stretch/>
        </p:blipFill>
        <p:spPr>
          <a:xfrm>
            <a:off x="5715000" y="4795920"/>
            <a:ext cx="1225440" cy="86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"/>
          <p:cNvPicPr/>
          <p:nvPr/>
        </p:nvPicPr>
        <p:blipFill>
          <a:blip r:embed="rId10"/>
          <a:stretch/>
        </p:blipFill>
        <p:spPr>
          <a:xfrm>
            <a:off x="7300800" y="4795920"/>
            <a:ext cx="471600" cy="86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"/>
          <p:cNvPicPr/>
          <p:nvPr/>
        </p:nvPicPr>
        <p:blipFill>
          <a:blip r:embed="rId11"/>
          <a:stretch/>
        </p:blipFill>
        <p:spPr>
          <a:xfrm>
            <a:off x="8101080" y="4795920"/>
            <a:ext cx="471600" cy="863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9"/>
          <p:cNvSpPr/>
          <p:nvPr/>
        </p:nvSpPr>
        <p:spPr>
          <a:xfrm>
            <a:off x="694836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0"/>
          <p:cNvSpPr/>
          <p:nvPr/>
        </p:nvSpPr>
        <p:spPr>
          <a:xfrm>
            <a:off x="774072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562720" y="5792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putation of symetrical 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3" descr=""/>
          <p:cNvPicPr/>
          <p:nvPr/>
        </p:nvPicPr>
        <p:blipFill>
          <a:blip r:embed="rId12"/>
          <a:stretch/>
        </p:blipFill>
        <p:spPr>
          <a:xfrm>
            <a:off x="4500720" y="4724280"/>
            <a:ext cx="98568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0"/>
          <p:cNvSpPr/>
          <p:nvPr/>
        </p:nvSpPr>
        <p:spPr>
          <a:xfrm>
            <a:off x="8035920" y="5792760"/>
            <a:ext cx="8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istance 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7238520" y="5873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ro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600" y="1447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x: The Caudate Nucle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Fuzzy Localization Map provides the agent territory (dynamic localization, with a simple thresholding) 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integrated in the MRF framework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 2-Class Markov Mode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for each structur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Espace réservé de la date 2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Espace réservé du pied de page 2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168-6DA0-4604-BB41-560AC15096D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er 41"/>
          <p:cNvGrpSpPr/>
          <p:nvPr/>
        </p:nvGrpSpPr>
        <p:grpSpPr>
          <a:xfrm>
            <a:off x="609480" y="1676520"/>
            <a:ext cx="8029800" cy="2118960"/>
            <a:chOff x="609480" y="1676520"/>
            <a:chExt cx="8029800" cy="2118960"/>
          </a:xfrm>
        </p:grpSpPr>
        <p:pic>
          <p:nvPicPr>
            <p:cNvPr id="599" name="Picture 21" descr="D:\Mes Documents\These\ProjetLOCUS\Documents\Publications\TMI2007\imgs\sr_fusion.png"/>
            <p:cNvPicPr/>
            <p:nvPr/>
          </p:nvPicPr>
          <p:blipFill>
            <a:blip r:embed="rId1"/>
            <a:stretch/>
          </p:blipFill>
          <p:spPr>
            <a:xfrm>
              <a:off x="641988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D:\Mes Documents\These\ProjetLOCUS\Documents\Publications\TMI2007\imgs\sr_orient.png"/>
            <p:cNvPicPr/>
            <p:nvPr/>
          </p:nvPicPr>
          <p:blipFill>
            <a:blip r:embed="rId2"/>
            <a:stretch/>
          </p:blipFill>
          <p:spPr>
            <a:xfrm>
              <a:off x="26859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3" descr="D:\Mes Documents\These\ProjetLOCUS\Documents\Publications\TMI2007\imgs\sr_dist.png"/>
            <p:cNvPicPr/>
            <p:nvPr/>
          </p:nvPicPr>
          <p:blipFill>
            <a:blip r:embed="rId3"/>
            <a:stretch/>
          </p:blipFill>
          <p:spPr>
            <a:xfrm>
              <a:off x="6141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Accolade fermante 69"/>
            <p:cNvSpPr/>
            <p:nvPr/>
          </p:nvSpPr>
          <p:spPr>
            <a:xfrm>
              <a:off x="4819680" y="1676520"/>
              <a:ext cx="285480" cy="164232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7200 h 1642320"/>
                <a:gd name="textAreaBottom" fmla="*/ 163512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16200" y="10800"/>
                    <a:pt x="21600" y="10800"/>
                  </a:cubicBezTo>
                  <a:cubicBezTo>
                    <a:pt x="162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7"/>
            <p:cNvSpPr/>
            <p:nvPr/>
          </p:nvSpPr>
          <p:spPr>
            <a:xfrm>
              <a:off x="6496200" y="2971440"/>
              <a:ext cx="214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uzzy Localization Map of the structure in the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124600" y="2286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FU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609480" y="29714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stance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7"/>
            <p:cNvSpPr/>
            <p:nvPr/>
          </p:nvSpPr>
          <p:spPr>
            <a:xfrm>
              <a:off x="2609640" y="297144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rientation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7" name="Picture 19" descr=""/>
          <p:cNvPicPr/>
          <p:nvPr/>
        </p:nvPicPr>
        <p:blipFill>
          <a:blip r:embed="rId4"/>
          <a:stretch/>
        </p:blipFill>
        <p:spPr>
          <a:xfrm>
            <a:off x="6539040" y="4114800"/>
            <a:ext cx="26049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er 48"/>
          <p:cNvGrpSpPr/>
          <p:nvPr/>
        </p:nvGrpSpPr>
        <p:grpSpPr>
          <a:xfrm>
            <a:off x="228600" y="4572000"/>
            <a:ext cx="6143760" cy="1788840"/>
            <a:chOff x="228600" y="4572000"/>
            <a:chExt cx="6143760" cy="1788840"/>
          </a:xfrm>
        </p:grpSpPr>
        <p:pic>
          <p:nvPicPr>
            <p:cNvPr id="609" name="Picture 81" descr=""/>
            <p:cNvPicPr/>
            <p:nvPr/>
          </p:nvPicPr>
          <p:blipFill>
            <a:blip r:embed="rId5"/>
            <a:stretch/>
          </p:blipFill>
          <p:spPr>
            <a:xfrm>
              <a:off x="228600" y="4572000"/>
              <a:ext cx="6143760" cy="9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9"/>
            <p:cNvSpPr/>
            <p:nvPr/>
          </p:nvSpPr>
          <p:spPr>
            <a:xfrm>
              <a:off x="1728720" y="5536800"/>
              <a:ext cx="346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field term: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tegration of </a:t>
              </a:r>
              <a:r>
                <a:rPr b="0" i="1" lang="fr-FR" sz="16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knowledge based on Fuzzy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 flipH="1" flipV="1">
              <a:off x="2585880" y="5268240"/>
              <a:ext cx="142560" cy="35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4876920" y="5587920"/>
            <a:ext cx="34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bability of the structure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7"/>
          <p:cNvSpPr/>
          <p:nvPr/>
        </p:nvSpPr>
        <p:spPr>
          <a:xfrm flipH="1" flipV="1">
            <a:off x="5333760" y="5181120"/>
            <a:ext cx="142920" cy="3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63"/>
          <p:cNvSpPr/>
          <p:nvPr/>
        </p:nvSpPr>
        <p:spPr>
          <a:xfrm>
            <a:off x="285840" y="928800"/>
            <a:ext cx="8572320" cy="27144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63"/>
          <p:cNvSpPr/>
          <p:nvPr/>
        </p:nvSpPr>
        <p:spPr>
          <a:xfrm>
            <a:off x="285840" y="4100400"/>
            <a:ext cx="8572320" cy="20718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à coins arrondis 8"/>
          <p:cNvSpPr/>
          <p:nvPr/>
        </p:nvSpPr>
        <p:spPr>
          <a:xfrm>
            <a:off x="3714840" y="4243320"/>
            <a:ext cx="416376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à coins arrondis 7"/>
          <p:cNvSpPr/>
          <p:nvPr/>
        </p:nvSpPr>
        <p:spPr>
          <a:xfrm>
            <a:off x="3571920" y="4386240"/>
            <a:ext cx="447048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Espace réservé de la date 3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Espace réservé du pied de page 3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38A-3342-484C-94BC-9642D6D839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à coins arrondis 4"/>
          <p:cNvSpPr/>
          <p:nvPr/>
        </p:nvSpPr>
        <p:spPr>
          <a:xfrm>
            <a:off x="3429000" y="4529160"/>
            <a:ext cx="471492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à coins arrondis 5"/>
          <p:cNvSpPr/>
          <p:nvPr/>
        </p:nvSpPr>
        <p:spPr>
          <a:xfrm>
            <a:off x="1000080" y="452916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6"/>
          <p:cNvSpPr/>
          <p:nvPr/>
        </p:nvSpPr>
        <p:spPr>
          <a:xfrm>
            <a:off x="1214280" y="4815000"/>
            <a:ext cx="9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à coins arrondis 9"/>
          <p:cNvSpPr/>
          <p:nvPr/>
        </p:nvSpPr>
        <p:spPr>
          <a:xfrm>
            <a:off x="928800" y="171468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10"/>
          <p:cNvSpPr/>
          <p:nvPr/>
        </p:nvSpPr>
        <p:spPr>
          <a:xfrm>
            <a:off x="1000080" y="20001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à coins arrondis 11"/>
          <p:cNvSpPr/>
          <p:nvPr/>
        </p:nvSpPr>
        <p:spPr>
          <a:xfrm>
            <a:off x="3786120" y="1214280"/>
            <a:ext cx="404172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à coins arrondis 12"/>
          <p:cNvSpPr/>
          <p:nvPr/>
        </p:nvSpPr>
        <p:spPr>
          <a:xfrm>
            <a:off x="3643200" y="1357200"/>
            <a:ext cx="440856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à coins arrondis 13"/>
          <p:cNvSpPr/>
          <p:nvPr/>
        </p:nvSpPr>
        <p:spPr>
          <a:xfrm>
            <a:off x="3500280" y="1500120"/>
            <a:ext cx="4714920" cy="185760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lèche courbée vers la gauche 20"/>
          <p:cNvSpPr/>
          <p:nvPr/>
        </p:nvSpPr>
        <p:spPr>
          <a:xfrm flipH="1" flipV="1" rot="21215400">
            <a:off x="4036320" y="3031200"/>
            <a:ext cx="619200" cy="1965240"/>
          </a:xfrm>
          <a:custGeom>
            <a:avLst/>
            <a:gdLst>
              <a:gd name="textAreaLeft" fmla="*/ 82800 w 619200"/>
              <a:gd name="textAreaRight" fmla="*/ 536400 w 619200"/>
              <a:gd name="textAreaTop" fmla="*/ 400320 h 1965240"/>
              <a:gd name="textAreaBottom" fmla="*/ 1265400 h 19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1723217"/>
                <a:lnTo>
                  <a:pt x="12888" y="19862"/>
                </a:lnTo>
                <a:lnTo>
                  <a:pt x="0" y="17953"/>
                </a:lnTo>
                <a:lnTo>
                  <a:pt x="12888" y="12568"/>
                </a:lnTo>
                <a:lnTo>
                  <a:pt x="12888" y="15862"/>
                </a:lnTo>
                <a:arcTo wR="21600" hR="8800" stAng="1723217" swAng="-1666995"/>
                <a:lnTo>
                  <a:pt x="21583" y="9153"/>
                </a:lnTo>
                <a:arcTo wR="21600" hR="8800" stAng="-56222" swAng="-5343778"/>
                <a:close/>
              </a:path>
              <a:path fill="darkenLess"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-56222"/>
                <a:lnTo>
                  <a:pt x="21583" y="9153"/>
                </a:lnTo>
                <a:arcTo wR="21600" hR="8800" stAng="-56222" swAng="-534377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lèche courbée vers la gauche 21"/>
          <p:cNvSpPr/>
          <p:nvPr/>
        </p:nvSpPr>
        <p:spPr>
          <a:xfrm flipH="1" flipV="1" rot="9608400">
            <a:off x="6681960" y="3001320"/>
            <a:ext cx="660240" cy="2205000"/>
          </a:xfrm>
          <a:custGeom>
            <a:avLst/>
            <a:gdLst>
              <a:gd name="textAreaLeft" fmla="*/ 88200 w 660240"/>
              <a:gd name="textAreaRight" fmla="*/ 572040 w 660240"/>
              <a:gd name="textAreaTop" fmla="*/ 453600 h 2205000"/>
              <a:gd name="textAreaBottom" fmla="*/ 143064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1738981"/>
                <a:lnTo>
                  <a:pt x="12888" y="19843"/>
                </a:lnTo>
                <a:lnTo>
                  <a:pt x="0" y="18129"/>
                </a:lnTo>
                <a:lnTo>
                  <a:pt x="12888" y="12900"/>
                </a:lnTo>
                <a:lnTo>
                  <a:pt x="12888" y="16035"/>
                </a:lnTo>
                <a:arcTo wR="21600" hR="8896" stAng="1738981" swAng="-1685392"/>
                <a:lnTo>
                  <a:pt x="21585" y="9233"/>
                </a:lnTo>
                <a:arcTo wR="21600" hR="8896" stAng="-53590" swAng="-5346410"/>
                <a:close/>
              </a:path>
              <a:path fill="darkenLess"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-53590"/>
                <a:lnTo>
                  <a:pt x="21585" y="9233"/>
                </a:lnTo>
                <a:arcTo wR="21600" hR="8896" stAng="-53590" swAng="-5346410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lèche courbée vers la gauche 26"/>
          <p:cNvSpPr/>
          <p:nvPr/>
        </p:nvSpPr>
        <p:spPr>
          <a:xfrm flipV="1" rot="193800">
            <a:off x="7539120" y="905400"/>
            <a:ext cx="598320" cy="1131840"/>
          </a:xfrm>
          <a:custGeom>
            <a:avLst/>
            <a:gdLst>
              <a:gd name="textAreaLeft" fmla="*/ 79920 w 598320"/>
              <a:gd name="textAreaRight" fmla="*/ 518400 w 598320"/>
              <a:gd name="textAreaTop" fmla="*/ 194760 h 1131840"/>
              <a:gd name="textAreaBottom" fmla="*/ 64692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1491301"/>
                <a:lnTo>
                  <a:pt x="12888" y="20131"/>
                </a:lnTo>
                <a:lnTo>
                  <a:pt x="0" y="15474"/>
                </a:lnTo>
                <a:lnTo>
                  <a:pt x="12888" y="7878"/>
                </a:lnTo>
                <a:lnTo>
                  <a:pt x="12888" y="13410"/>
                </a:lnTo>
                <a:arcTo wR="21600" hR="7440" stAng="1491301" swAng="-1396404"/>
                <a:lnTo>
                  <a:pt x="21531" y="8034"/>
                </a:lnTo>
                <a:arcTo wR="21600" hR="7440" stAng="-94897" swAng="-5305103"/>
                <a:close/>
              </a:path>
              <a:path fill="darkenLess"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-94897"/>
                <a:lnTo>
                  <a:pt x="21531" y="8034"/>
                </a:lnTo>
                <a:arcTo wR="21600" hR="7440" stAng="-94897" swAng="-5305103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à coins arrondis 30"/>
          <p:cNvSpPr/>
          <p:nvPr/>
        </p:nvSpPr>
        <p:spPr>
          <a:xfrm>
            <a:off x="714240" y="714240"/>
            <a:ext cx="214344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à coins arrondis 31"/>
          <p:cNvSpPr/>
          <p:nvPr/>
        </p:nvSpPr>
        <p:spPr>
          <a:xfrm>
            <a:off x="785880" y="3957480"/>
            <a:ext cx="207180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èche vers le haut 111"/>
          <p:cNvSpPr/>
          <p:nvPr/>
        </p:nvSpPr>
        <p:spPr>
          <a:xfrm rot="5400000">
            <a:off x="2678400" y="4707360"/>
            <a:ext cx="357120" cy="1000440"/>
          </a:xfrm>
          <a:prstGeom prst="upArrow">
            <a:avLst>
              <a:gd name="adj1" fmla="val 23333"/>
              <a:gd name="adj2" fmla="val 36678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lèche vers le haut 111"/>
          <p:cNvSpPr/>
          <p:nvPr/>
        </p:nvSpPr>
        <p:spPr>
          <a:xfrm rot="5400000">
            <a:off x="2678400" y="1892880"/>
            <a:ext cx="357120" cy="1143000"/>
          </a:xfrm>
          <a:prstGeom prst="upArrow">
            <a:avLst>
              <a:gd name="adj1" fmla="val 23333"/>
              <a:gd name="adj2" fmla="val 36659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ZoneTexte 10"/>
          <p:cNvSpPr/>
          <p:nvPr/>
        </p:nvSpPr>
        <p:spPr>
          <a:xfrm>
            <a:off x="4214880" y="1571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ZoneTexte 10"/>
          <p:cNvSpPr/>
          <p:nvPr/>
        </p:nvSpPr>
        <p:spPr>
          <a:xfrm>
            <a:off x="4714920" y="45291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4857840" y="2500200"/>
            <a:ext cx="1857240" cy="7146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3"/>
          <p:cNvSpPr/>
          <p:nvPr/>
        </p:nvSpPr>
        <p:spPr>
          <a:xfrm>
            <a:off x="4929120" y="5029200"/>
            <a:ext cx="1857600" cy="7142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à coins arrondis 36"/>
          <p:cNvSpPr/>
          <p:nvPr/>
        </p:nvSpPr>
        <p:spPr>
          <a:xfrm>
            <a:off x="37861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à coins arrondis 37"/>
          <p:cNvSpPr/>
          <p:nvPr/>
        </p:nvSpPr>
        <p:spPr>
          <a:xfrm>
            <a:off x="67867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à coins arrondis 38"/>
          <p:cNvSpPr/>
          <p:nvPr/>
        </p:nvSpPr>
        <p:spPr>
          <a:xfrm>
            <a:off x="371484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à coins arrondis 39"/>
          <p:cNvSpPr/>
          <p:nvPr/>
        </p:nvSpPr>
        <p:spPr>
          <a:xfrm>
            <a:off x="671508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8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608040" cy="785520"/>
          </a:xfrm>
          <a:prstGeom prst="rect">
            <a:avLst/>
          </a:prstGeom>
          <a:ln w="0">
            <a:noFill/>
          </a:ln>
        </p:spPr>
      </p:pic>
      <p:sp>
        <p:nvSpPr>
          <p:cNvPr id="646" name="Flèche droite 33"/>
          <p:cNvSpPr/>
          <p:nvPr/>
        </p:nvSpPr>
        <p:spPr>
          <a:xfrm rot="5400000">
            <a:off x="7143120" y="2357280"/>
            <a:ext cx="214560" cy="2142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e9e5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lèche courbée vers la gauche 34"/>
          <p:cNvSpPr/>
          <p:nvPr/>
        </p:nvSpPr>
        <p:spPr>
          <a:xfrm flipH="1" flipV="1" rot="193200">
            <a:off x="3149640" y="3940920"/>
            <a:ext cx="674640" cy="1086120"/>
          </a:xfrm>
          <a:custGeom>
            <a:avLst/>
            <a:gdLst>
              <a:gd name="textAreaLeft" fmla="*/ 90360 w 674640"/>
              <a:gd name="textAreaRight" fmla="*/ 584280 w 674640"/>
              <a:gd name="textAreaTop" fmla="*/ 172080 h 1086120"/>
              <a:gd name="textAreaBottom" fmla="*/ 587160 h 10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1386510"/>
                <a:lnTo>
                  <a:pt x="12888" y="20246"/>
                </a:lnTo>
                <a:lnTo>
                  <a:pt x="0" y="14405"/>
                </a:lnTo>
                <a:lnTo>
                  <a:pt x="12888" y="5855"/>
                </a:lnTo>
                <a:lnTo>
                  <a:pt x="12888" y="12352"/>
                </a:lnTo>
                <a:arcTo wR="21600" hR="6853" stAng="1386510" swAng="-1274798"/>
                <a:lnTo>
                  <a:pt x="21488" y="7552"/>
                </a:lnTo>
                <a:arcTo wR="21600" hR="6853" stAng="-111712" swAng="-5288288"/>
                <a:close/>
              </a:path>
              <a:path fill="darkenLess"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-111712"/>
                <a:lnTo>
                  <a:pt x="21488" y="7552"/>
                </a:lnTo>
                <a:arcTo wR="21600" hR="6853" stAng="-111712" swAng="-528828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0" descr="D:\Mes Documents\These\ProjetLOCUS\Documents\Publications\AIME2007\imgs\bw_combined.png"/>
          <p:cNvPicPr/>
          <p:nvPr/>
        </p:nvPicPr>
        <p:blipFill>
          <a:blip r:embed="rId2"/>
          <a:stretch/>
        </p:blipFill>
        <p:spPr>
          <a:xfrm>
            <a:off x="-231840" y="3865680"/>
            <a:ext cx="1249560" cy="107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D:\Mes Documents\These\ProjetLOCUS\Documents\Publications\AIME2007\imgs\bw_struct.png"/>
          <p:cNvPicPr/>
          <p:nvPr/>
        </p:nvPicPr>
        <p:blipFill>
          <a:blip r:embed="rId3"/>
          <a:stretch/>
        </p:blipFill>
        <p:spPr>
          <a:xfrm>
            <a:off x="-225360" y="609480"/>
            <a:ext cx="1163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56"/>
          <p:cNvSpPr/>
          <p:nvPr/>
        </p:nvSpPr>
        <p:spPr>
          <a:xfrm>
            <a:off x="325440" y="235080"/>
            <a:ext cx="4968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0640" y="299880"/>
            <a:ext cx="3465720" cy="94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Book"/>
              </a:rPr>
              <a:t>Adaptation to local image complex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114960" y="1157400"/>
            <a:ext cx="2043360" cy="251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5946840" y="3557520"/>
            <a:ext cx="2381040" cy="2500560"/>
          </a:xfrm>
          <a:prstGeom prst="rect">
            <a:avLst/>
          </a:prstGeom>
          <a:ln w="0">
            <a:noFill/>
          </a:ln>
        </p:spPr>
      </p:pic>
      <p:sp>
        <p:nvSpPr>
          <p:cNvPr id="657" name="ZoneTexte 20"/>
          <p:cNvSpPr/>
          <p:nvPr/>
        </p:nvSpPr>
        <p:spPr>
          <a:xfrm>
            <a:off x="5869080" y="5977080"/>
            <a:ext cx="25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Iteration number p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4"/>
          <a:stretch/>
        </p:blipFill>
        <p:spPr>
          <a:xfrm>
            <a:off x="47160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5"/>
          <a:stretch/>
        </p:blipFill>
        <p:spPr>
          <a:xfrm>
            <a:off x="228456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6"/>
          <a:stretch/>
        </p:blipFill>
        <p:spPr>
          <a:xfrm>
            <a:off x="2284560" y="228276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746280" y="3439800"/>
            <a:ext cx="1141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SP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965400" y="1412640"/>
            <a:ext cx="1141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033800" y="287460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LOCUS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53"/>
          <p:cNvSpPr/>
          <p:nvPr/>
        </p:nvSpPr>
        <p:spPr>
          <a:xfrm>
            <a:off x="213480" y="2984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High inhomogeneity (surface ant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055"/>
          <p:cNvGrpSpPr/>
          <p:nvPr/>
        </p:nvGrpSpPr>
        <p:grpSpPr>
          <a:xfrm>
            <a:off x="345960" y="4075200"/>
            <a:ext cx="4957920" cy="2082600"/>
            <a:chOff x="345960" y="4075200"/>
            <a:chExt cx="4957920" cy="2082600"/>
          </a:xfrm>
        </p:grpSpPr>
        <p:sp>
          <p:nvSpPr>
            <p:cNvPr id="666" name="Rectangle 4"/>
            <p:cNvSpPr/>
            <p:nvPr/>
          </p:nvSpPr>
          <p:spPr>
            <a:xfrm>
              <a:off x="4064040" y="565920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LOCUS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Picture 3" descr=""/>
            <p:cNvPicPr/>
            <p:nvPr/>
          </p:nvPicPr>
          <p:blipFill>
            <a:blip r:embed="rId7"/>
            <a:stretch/>
          </p:blipFill>
          <p:spPr>
            <a:xfrm>
              <a:off x="4010040" y="4684680"/>
              <a:ext cx="11602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8"/>
            <a:stretch/>
          </p:blipFill>
          <p:spPr>
            <a:xfrm>
              <a:off x="474840" y="4562640"/>
              <a:ext cx="10159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9"/>
            <a:stretch/>
          </p:blipFill>
          <p:spPr>
            <a:xfrm>
              <a:off x="1630440" y="4675320"/>
              <a:ext cx="11793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4"/>
            <p:cNvSpPr/>
            <p:nvPr/>
          </p:nvSpPr>
          <p:spPr>
            <a:xfrm>
              <a:off x="168588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SP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Picture 6" descr=""/>
            <p:cNvPicPr/>
            <p:nvPr/>
          </p:nvPicPr>
          <p:blipFill>
            <a:blip r:embed="rId10"/>
            <a:stretch/>
          </p:blipFill>
          <p:spPr>
            <a:xfrm>
              <a:off x="2824200" y="4680000"/>
              <a:ext cx="11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4"/>
            <p:cNvSpPr/>
            <p:nvPr/>
          </p:nvSpPr>
          <p:spPr>
            <a:xfrm>
              <a:off x="287496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045"/>
            <p:cNvSpPr/>
            <p:nvPr/>
          </p:nvSpPr>
          <p:spPr>
            <a:xfrm>
              <a:off x="365040" y="4087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orgia"/>
                </a:rPr>
                <a:t>Real 3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54"/>
            <p:cNvSpPr/>
            <p:nvPr/>
          </p:nvSpPr>
          <p:spPr>
            <a:xfrm>
              <a:off x="345960" y="4075200"/>
              <a:ext cx="4957920" cy="20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Espace réservé du numéro de diapositive 2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941-47D5-48DB-A9B6-468E3B3D250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rovement of tissue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Espace réservé de la date 1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Espace réservé du pied de page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AB47-1349-453E-98A5-7F896B23330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720720" y="2228760"/>
            <a:ext cx="146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720720" y="2228760"/>
            <a:ext cx="145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20720" y="22287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32767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gmentation result without anatom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"/>
          <p:cNvPicPr/>
          <p:nvPr/>
        </p:nvPicPr>
        <p:blipFill>
          <a:blip r:embed="rId1"/>
          <a:stretch/>
        </p:blipFill>
        <p:spPr>
          <a:xfrm>
            <a:off x="808200" y="2081160"/>
            <a:ext cx="2163600" cy="1936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3" descr=""/>
          <p:cNvPicPr/>
          <p:nvPr/>
        </p:nvPicPr>
        <p:blipFill>
          <a:blip r:embed="rId2"/>
          <a:stretch/>
        </p:blipFill>
        <p:spPr>
          <a:xfrm>
            <a:off x="3276720" y="2095560"/>
            <a:ext cx="2163600" cy="190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4" descr=""/>
          <p:cNvPicPr/>
          <p:nvPr/>
        </p:nvPicPr>
        <p:blipFill>
          <a:blip r:embed="rId3"/>
          <a:stretch/>
        </p:blipFill>
        <p:spPr>
          <a:xfrm>
            <a:off x="5715000" y="2066760"/>
            <a:ext cx="2370240" cy="19656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5"/>
          <p:cNvSpPr/>
          <p:nvPr/>
        </p:nvSpPr>
        <p:spPr>
          <a:xfrm>
            <a:off x="5715000" y="4114800"/>
            <a:ext cx="25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of anatomical knowledge: improvement of tissue segmentation around putamen and thala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11276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iti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76320" y="1400040"/>
          <a:ext cx="533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00040"/>
                    <a:ext cx="533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. Magnetic resonance imaging (MRI) in brief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08560" y="1447920"/>
            <a:ext cx="361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rain MR image interpre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segmentation (WM, GM, CSF) : intensity level distribu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Noise, partial volume effect, 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structure segmentation (caudate nuclei, ventricules, sulci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knowledge (shape, topology, location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ra/inter-individual vari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ze of data (3D, 2563 voxel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8160" y="2879640"/>
          <a:ext cx="2882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2879640"/>
                    <a:ext cx="2882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99E1-F44C-4BD5-8D55-E50743FE46B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tection of cerebral tiss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lineation of the contour of the br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heterogeneous segmentation meth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complementary cooperation sty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tuated specialized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L. Germond, M. Dojat, C.J. Taylor, C. Garbay, A cooperative approach for segmentation of MRI brain scans, Artificial Intelligence in Medicine, 20(1): 77-93 (2000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Espace réservé du numéro de diapositive 1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658-1D29-4ACB-8761-9308C58F56E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2278080" cy="280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6724080" y="1517760"/>
            <a:ext cx="2212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rebro-spin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ey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 flipV="1">
            <a:off x="5545080" y="1707840"/>
            <a:ext cx="1170000" cy="65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5792760" y="3276720"/>
            <a:ext cx="92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 flipV="1">
            <a:off x="5915160" y="1708200"/>
            <a:ext cx="799920" cy="13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H="1" flipV="1">
            <a:off x="5915160" y="2557440"/>
            <a:ext cx="923760" cy="32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1" descr="C:\Mes Documents\Laurence\Images GIF\modeleKB.gif"/>
          <p:cNvPicPr/>
          <p:nvPr/>
        </p:nvPicPr>
        <p:blipFill>
          <a:blip r:embed="rId1"/>
          <a:stretch/>
        </p:blipFill>
        <p:spPr>
          <a:xfrm>
            <a:off x="5257800" y="1523880"/>
            <a:ext cx="3139920" cy="170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:\Mes Documents\Laurence\Images GIF\ArchiOrasis.gif"/>
          <p:cNvPicPr/>
          <p:nvPr/>
        </p:nvPicPr>
        <p:blipFill>
          <a:blip r:embed="rId2"/>
          <a:stretch/>
        </p:blipFill>
        <p:spPr>
          <a:xfrm>
            <a:off x="3886200" y="3886200"/>
            <a:ext cx="470376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Knowledge model (Lundervold 95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opology-criter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is surrounded by gray matter (GM), itself surrounded by cerebro-spinal fluid (CSF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M can be modeled as a ribbon of approximately 2 mm width. Thus, if a pixel is less than δpixels far from the cortex boundary, it belongs to either GM or CSF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egmentation princi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rtex contour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rey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17E-1278-454F-ACBC-A0EECEEC030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0B6-90E2-446E-BF72-5BCD5702D6F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 6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2"/>
          <p:cNvSpPr/>
          <p:nvPr/>
        </p:nvSpPr>
        <p:spPr>
          <a:xfrm>
            <a:off x="2697120" y="719280"/>
            <a:ext cx="3017880" cy="3525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123840" y="784080"/>
            <a:ext cx="2462040" cy="33958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C:\Mes Documents\Laurence\contourChehikian.gif"/>
          <p:cNvPicPr/>
          <p:nvPr/>
        </p:nvPicPr>
        <p:blipFill>
          <a:blip r:embed="rId1"/>
          <a:stretch/>
        </p:blipFill>
        <p:spPr>
          <a:xfrm>
            <a:off x="5972040" y="914400"/>
            <a:ext cx="1231920" cy="130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C:\Mes Documents\Laurence\contourDynamique.gif"/>
          <p:cNvPicPr/>
          <p:nvPr/>
        </p:nvPicPr>
        <p:blipFill>
          <a:blip r:embed="rId2"/>
          <a:stretch/>
        </p:blipFill>
        <p:spPr>
          <a:xfrm>
            <a:off x="732780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Mes Documents\Laurence\contourModele.gif"/>
          <p:cNvPicPr/>
          <p:nvPr/>
        </p:nvPicPr>
        <p:blipFill>
          <a:blip r:embed="rId3"/>
          <a:stretch/>
        </p:blipFill>
        <p:spPr>
          <a:xfrm>
            <a:off x="923760" y="25480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Mes Documents\Laurence\coupeSuivante.gif"/>
          <p:cNvPicPr/>
          <p:nvPr/>
        </p:nvPicPr>
        <p:blipFill>
          <a:blip r:embed="rId4"/>
          <a:stretch/>
        </p:blipFill>
        <p:spPr>
          <a:xfrm>
            <a:off x="985680" y="44956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Mes Documents\Laurence\matiereBlanche.gif"/>
          <p:cNvPicPr/>
          <p:nvPr/>
        </p:nvPicPr>
        <p:blipFill>
          <a:blip r:embed="rId5"/>
          <a:stretch/>
        </p:blipFill>
        <p:spPr>
          <a:xfrm>
            <a:off x="4311720" y="2612880"/>
            <a:ext cx="129204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Mes Documents\Laurence\matiereGrise.gif"/>
          <p:cNvPicPr/>
          <p:nvPr/>
        </p:nvPicPr>
        <p:blipFill>
          <a:blip r:embed="rId6"/>
          <a:stretch/>
        </p:blipFill>
        <p:spPr>
          <a:xfrm>
            <a:off x="289548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C:\Mes Documents\Laurence\modeleMoyen.gif"/>
          <p:cNvPicPr/>
          <p:nvPr/>
        </p:nvPicPr>
        <p:blipFill>
          <a:blip r:embed="rId7"/>
          <a:stretch/>
        </p:blipFill>
        <p:spPr>
          <a:xfrm>
            <a:off x="1600200" y="979560"/>
            <a:ext cx="922320" cy="1085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5"/>
          <p:cNvSpPr/>
          <p:nvPr/>
        </p:nvSpPr>
        <p:spPr>
          <a:xfrm>
            <a:off x="184320" y="914400"/>
            <a:ext cx="12934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form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17880" y="955440"/>
            <a:ext cx="25225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gmentation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95740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443556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095880" y="2873520"/>
            <a:ext cx="800280" cy="52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2031840" y="2023920"/>
            <a:ext cx="0" cy="457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51144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498960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3017880" y="261288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2216160" y="3200400"/>
            <a:ext cx="801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5850000" y="719280"/>
            <a:ext cx="2894040" cy="35258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6465960" y="2220840"/>
            <a:ext cx="0" cy="717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664240" y="313524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6896160" y="3135240"/>
            <a:ext cx="369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788080" y="4868640"/>
            <a:ext cx="146664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roa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2"/>
          <p:cNvSpPr/>
          <p:nvPr/>
        </p:nvSpPr>
        <p:spPr>
          <a:xfrm flipH="1">
            <a:off x="3631680" y="4898880"/>
            <a:ext cx="2156040" cy="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3632040" y="3984480"/>
            <a:ext cx="0" cy="9144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4"/>
          <p:cNvSpPr/>
          <p:nvPr/>
        </p:nvSpPr>
        <p:spPr>
          <a:xfrm flipH="1">
            <a:off x="2278080" y="5148360"/>
            <a:ext cx="351000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762120" y="4343400"/>
            <a:ext cx="6896160" cy="1654200"/>
          </a:xfrm>
          <a:prstGeom prst="rect">
            <a:avLst/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6"/>
          <p:cNvSpPr/>
          <p:nvPr/>
        </p:nvSpPr>
        <p:spPr>
          <a:xfrm>
            <a:off x="8004240" y="3919680"/>
            <a:ext cx="0" cy="11095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6465960" y="5224320"/>
            <a:ext cx="11160" cy="49068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3882600" y="4543200"/>
            <a:ext cx="1711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same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662640" y="5119560"/>
            <a:ext cx="2085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following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095880" y="5663880"/>
            <a:ext cx="73836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114800" y="3200400"/>
            <a:ext cx="258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7327800" y="1141920"/>
            <a:ext cx="123192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ou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6507360" y="5259240"/>
            <a:ext cx="450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162920" y="5029200"/>
            <a:ext cx="8380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Espace réservé de la date 4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space réservé du pied de page 4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D94-B0BD-4224-967C-118661CA018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 priori knowledge: set of 20 examples, aligned on a common AC-PC pl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Building: manual positioning of landmarks, PC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eatures: robustness, global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33800" y="1447920"/>
            <a:ext cx="3749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otes TF, Hill A, Taylor CJ and Haslam J. The use of active shape models for locating structures in medical images, Im. Vis. Comput. 1995;12:335-365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871-17D7-4038-8479-947D887BC6F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5"/>
          <p:cNvGrpSpPr/>
          <p:nvPr/>
        </p:nvGrpSpPr>
        <p:grpSpPr>
          <a:xfrm>
            <a:off x="4433760" y="2808360"/>
            <a:ext cx="4232520" cy="2974680"/>
            <a:chOff x="4433760" y="2808360"/>
            <a:chExt cx="4232520" cy="2974680"/>
          </a:xfrm>
        </p:grpSpPr>
        <p:pic>
          <p:nvPicPr>
            <p:cNvPr id="332" name="Picture 11" descr="C:\Mes Documents\Laurence\Images GIF\BrainAvantSrch.gif"/>
            <p:cNvPicPr/>
            <p:nvPr/>
          </p:nvPicPr>
          <p:blipFill>
            <a:blip r:embed="rId1"/>
            <a:stretch/>
          </p:blipFill>
          <p:spPr>
            <a:xfrm>
              <a:off x="4433760" y="2808360"/>
              <a:ext cx="20862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C:\Mes Documents\Laurence\Images GIF\BrainApresSrch.gif"/>
            <p:cNvPicPr/>
            <p:nvPr/>
          </p:nvPicPr>
          <p:blipFill>
            <a:blip r:embed="rId2"/>
            <a:stretch/>
          </p:blipFill>
          <p:spPr>
            <a:xfrm>
              <a:off x="6588000" y="2808360"/>
              <a:ext cx="2078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603680" y="5170680"/>
              <a:ext cx="1729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6628680" y="5110200"/>
              <a:ext cx="19746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f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rès dé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5:04:28Z</dcterms:created>
  <dc:creator>Amphi</dc:creator>
  <dc:description/>
  <dc:language>en-US</dc:language>
  <cp:lastModifiedBy>Garbay Catherine</cp:lastModifiedBy>
  <dcterms:modified xsi:type="dcterms:W3CDTF">2013-08-29T06:39:43Z</dcterms:modified>
  <cp:revision>67</cp:revision>
  <dc:subject/>
  <dc:title>Aucun titre de diapositive</dc:title>
</cp:coreProperties>
</file>